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978-C0AF-4BDF-9EE2-680360B9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FC8-968E-40C5-9C03-A34D0287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8DD-3F6C-44E7-97F7-EC4F1B6D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D9B-F664-4724-8458-EC3C1095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1D2-2A71-49F3-9A62-D9862717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78C-6B16-447B-AC38-CAD6067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E7B-F898-4207-BCE5-74CFC10A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CFE-8653-42F5-97BE-07124718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BEC-486C-4E12-91D5-116B739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60D-CD45-4D5D-8690-DF8F0C63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183-DDF3-451B-8F8B-7A8FD58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033-113B-4FA5-9F46-6D12823A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F27C-FD24-4450-9D47-0888ADA59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6360" y="4078440"/>
            <a:ext cx="345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70200" y="4087800"/>
            <a:ext cx="366732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35120" y="3689280"/>
            <a:ext cx="1038240" cy="384120"/>
          </a:xfrm>
          <a:custGeom>
            <a:avLst/>
            <a:gdLst/>
            <a:ahLst/>
            <a:rect l="l" t="t" r="r" b="b"/>
            <a:pathLst>
              <a:path w="435" h="232">
                <a:moveTo>
                  <a:pt x="0" y="232"/>
                </a:moveTo>
                <a:cubicBezTo>
                  <a:pt x="49" y="222"/>
                  <a:pt x="221" y="211"/>
                  <a:pt x="294" y="172"/>
                </a:cubicBezTo>
                <a:cubicBezTo>
                  <a:pt x="367" y="133"/>
                  <a:pt x="406" y="36"/>
                  <a:pt x="435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535120" y="4078440"/>
            <a:ext cx="60850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52280"/>
            <a:ext cx="4915080" cy="764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28440" y="1066680"/>
            <a:ext cx="9171720" cy="5092920"/>
            <a:chOff x="-28440" y="1066680"/>
            <a:chExt cx="9171720" cy="5092920"/>
          </a:xfrm>
        </p:grpSpPr>
        <p:sp>
          <p:nvSpPr>
            <p:cNvPr id="47" name=""/>
            <p:cNvSpPr/>
            <p:nvPr/>
          </p:nvSpPr>
          <p:spPr>
            <a:xfrm>
              <a:off x="241200" y="2307960"/>
              <a:ext cx="8559720" cy="1631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2120" y="2012760"/>
              <a:ext cx="8574120" cy="355320"/>
            </a:xfrm>
            <a:prstGeom prst="rect">
              <a:avLst/>
            </a:prstGeom>
            <a:gradFill rotWithShape="0">
              <a:gsLst>
                <a:gs pos="0">
                  <a:srgbClr val="68ae45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" y="3854520"/>
              <a:ext cx="8574120" cy="190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2120" y="5762880"/>
              <a:ext cx="8574120" cy="396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538560" y="2373480"/>
              <a:ext cx="247320" cy="2010960"/>
              <a:chOff x="538560" y="2373480"/>
              <a:chExt cx="247320" cy="2010960"/>
            </a:xfrm>
          </p:grpSpPr>
          <p:sp>
            <p:nvSpPr>
              <p:cNvPr id="52" name=""/>
              <p:cNvSpPr/>
              <p:nvPr/>
            </p:nvSpPr>
            <p:spPr>
              <a:xfrm>
                <a:off x="53856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8560" y="3831840"/>
                <a:ext cx="247320" cy="552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844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036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316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844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3036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1316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8752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64800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70992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133880" y="2368440"/>
              <a:ext cx="3092400" cy="237960"/>
            </a:xfrm>
            <a:custGeom>
              <a:avLst/>
              <a:gdLst>
                <a:gd name="textAreaLeft" fmla="*/ 409320 w 3092400"/>
                <a:gd name="textAreaRight" fmla="*/ 2683080 w 3092400"/>
                <a:gd name="textAreaTop" fmla="*/ 31320 h 237960"/>
                <a:gd name="textAreaBottom" fmla="*/ 2066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00" y="21600"/>
                  </a:lnTo>
                  <a:lnTo>
                    <a:pt x="2000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1560" y="2087640"/>
              <a:ext cx="3822480" cy="277200"/>
            </a:xfrm>
            <a:prstGeom prst="parallelogram">
              <a:avLst>
                <a:gd name="adj" fmla="val 25855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91640" y="3718080"/>
              <a:ext cx="1037880" cy="301680"/>
            </a:xfrm>
            <a:custGeom>
              <a:avLst/>
              <a:gdLst/>
              <a:ahLst/>
              <a:rect l="l" t="t" r="r" b="b"/>
              <a:pathLst>
                <a:path w="435" h="183">
                  <a:moveTo>
                    <a:pt x="51" y="183"/>
                  </a:moveTo>
                  <a:lnTo>
                    <a:pt x="435" y="183"/>
                  </a:lnTo>
                  <a:lnTo>
                    <a:pt x="267" y="156"/>
                  </a:lnTo>
                  <a:lnTo>
                    <a:pt x="168" y="135"/>
                  </a:lnTo>
                  <a:lnTo>
                    <a:pt x="138" y="126"/>
                  </a:lnTo>
                  <a:lnTo>
                    <a:pt x="102" y="114"/>
                  </a:lnTo>
                  <a:lnTo>
                    <a:pt x="57" y="78"/>
                  </a:lnTo>
                  <a:lnTo>
                    <a:pt x="36" y="51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30" y="87"/>
                  </a:lnTo>
                  <a:lnTo>
                    <a:pt x="42" y="129"/>
                  </a:lnTo>
                  <a:lnTo>
                    <a:pt x="42" y="156"/>
                  </a:lnTo>
                  <a:lnTo>
                    <a:pt x="51" y="18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19560" y="3386520"/>
              <a:ext cx="2633760" cy="632880"/>
            </a:xfrm>
            <a:custGeom>
              <a:avLst/>
              <a:gdLst/>
              <a:ahLst/>
              <a:rect l="l" t="t" r="r" b="b"/>
              <a:pathLst>
                <a:path w="1104" h="384">
                  <a:moveTo>
                    <a:pt x="0" y="288"/>
                  </a:moveTo>
                  <a:lnTo>
                    <a:pt x="96" y="96"/>
                  </a:lnTo>
                  <a:lnTo>
                    <a:pt x="480" y="0"/>
                  </a:lnTo>
                  <a:lnTo>
                    <a:pt x="816" y="0"/>
                  </a:lnTo>
                  <a:lnTo>
                    <a:pt x="1056" y="48"/>
                  </a:lnTo>
                  <a:lnTo>
                    <a:pt x="1104" y="288"/>
                  </a:lnTo>
                  <a:lnTo>
                    <a:pt x="720" y="384"/>
                  </a:lnTo>
                  <a:lnTo>
                    <a:pt x="480" y="336"/>
                  </a:lnTo>
                  <a:lnTo>
                    <a:pt x="240" y="336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16120" y="2910240"/>
              <a:ext cx="6527160" cy="1901160"/>
              <a:chOff x="2616120" y="2910240"/>
              <a:chExt cx="6527160" cy="1901160"/>
            </a:xfrm>
          </p:grpSpPr>
          <p:sp>
            <p:nvSpPr>
              <p:cNvPr id="68" name=""/>
              <p:cNvSpPr/>
              <p:nvPr/>
            </p:nvSpPr>
            <p:spPr>
              <a:xfrm>
                <a:off x="7196400" y="3147840"/>
                <a:ext cx="1946880" cy="713160"/>
              </a:xfrm>
              <a:custGeom>
                <a:avLst/>
                <a:gdLst/>
                <a:ahLst/>
                <a:rect l="l" t="t" r="r" b="b"/>
                <a:pathLst>
                  <a:path w="816" h="432">
                    <a:moveTo>
                      <a:pt x="96" y="432"/>
                    </a:moveTo>
                    <a:lnTo>
                      <a:pt x="816" y="432"/>
                    </a:lnTo>
                    <a:lnTo>
                      <a:pt x="501" y="368"/>
                    </a:lnTo>
                    <a:lnTo>
                      <a:pt x="420" y="312"/>
                    </a:lnTo>
                    <a:lnTo>
                      <a:pt x="252" y="204"/>
                    </a:lnTo>
                    <a:lnTo>
                      <a:pt x="336" y="252"/>
                    </a:lnTo>
                    <a:lnTo>
                      <a:pt x="156" y="144"/>
                    </a:lnTo>
                    <a:lnTo>
                      <a:pt x="108" y="108"/>
                    </a:lnTo>
                    <a:lnTo>
                      <a:pt x="28" y="57"/>
                    </a:lnTo>
                    <a:lnTo>
                      <a:pt x="0" y="0"/>
                    </a:lnTo>
                    <a:lnTo>
                      <a:pt x="56" y="205"/>
                    </a:lnTo>
                    <a:lnTo>
                      <a:pt x="79" y="305"/>
                    </a:lnTo>
                    <a:lnTo>
                      <a:pt x="79" y="368"/>
                    </a:lnTo>
                    <a:lnTo>
                      <a:pt x="96" y="432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616120" y="2910240"/>
                <a:ext cx="5267160" cy="1901160"/>
                <a:chOff x="2616120" y="2910240"/>
                <a:chExt cx="5267160" cy="19011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531960" y="2910240"/>
                  <a:ext cx="4351320" cy="19011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616120" y="3226680"/>
                  <a:ext cx="1459440" cy="658440"/>
                </a:xfrm>
                <a:custGeom>
                  <a:avLst/>
                  <a:gdLst/>
                  <a:ahLst/>
                  <a:rect l="l" t="t" r="r" b="b"/>
                  <a:pathLst>
                    <a:path w="612" h="399">
                      <a:moveTo>
                        <a:pt x="22" y="386"/>
                      </a:moveTo>
                      <a:cubicBezTo>
                        <a:pt x="134" y="385"/>
                        <a:pt x="81" y="399"/>
                        <a:pt x="361" y="381"/>
                      </a:cubicBezTo>
                      <a:cubicBezTo>
                        <a:pt x="536" y="374"/>
                        <a:pt x="549" y="390"/>
                        <a:pt x="576" y="256"/>
                      </a:cubicBezTo>
                      <a:cubicBezTo>
                        <a:pt x="577" y="239"/>
                        <a:pt x="580" y="225"/>
                        <a:pt x="585" y="209"/>
                      </a:cubicBezTo>
                      <a:cubicBezTo>
                        <a:pt x="586" y="185"/>
                        <a:pt x="588" y="161"/>
                        <a:pt x="593" y="139"/>
                      </a:cubicBezTo>
                      <a:cubicBezTo>
                        <a:pt x="594" y="113"/>
                        <a:pt x="597" y="75"/>
                        <a:pt x="607" y="51"/>
                      </a:cubicBezTo>
                      <a:cubicBezTo>
                        <a:pt x="612" y="11"/>
                        <a:pt x="612" y="28"/>
                        <a:pt x="607" y="0"/>
                      </a:cubicBezTo>
                      <a:cubicBezTo>
                        <a:pt x="600" y="16"/>
                        <a:pt x="591" y="28"/>
                        <a:pt x="581" y="40"/>
                      </a:cubicBezTo>
                      <a:cubicBezTo>
                        <a:pt x="576" y="79"/>
                        <a:pt x="549" y="79"/>
                        <a:pt x="526" y="102"/>
                      </a:cubicBezTo>
                      <a:cubicBezTo>
                        <a:pt x="519" y="119"/>
                        <a:pt x="479" y="125"/>
                        <a:pt x="468" y="136"/>
                      </a:cubicBezTo>
                      <a:cubicBezTo>
                        <a:pt x="459" y="153"/>
                        <a:pt x="445" y="163"/>
                        <a:pt x="432" y="168"/>
                      </a:cubicBezTo>
                      <a:cubicBezTo>
                        <a:pt x="422" y="175"/>
                        <a:pt x="414" y="181"/>
                        <a:pt x="404" y="184"/>
                      </a:cubicBezTo>
                      <a:cubicBezTo>
                        <a:pt x="396" y="189"/>
                        <a:pt x="404" y="188"/>
                        <a:pt x="384" y="200"/>
                      </a:cubicBezTo>
                      <a:cubicBezTo>
                        <a:pt x="363" y="212"/>
                        <a:pt x="328" y="232"/>
                        <a:pt x="308" y="236"/>
                      </a:cubicBezTo>
                      <a:cubicBezTo>
                        <a:pt x="286" y="247"/>
                        <a:pt x="275" y="242"/>
                        <a:pt x="240" y="268"/>
                      </a:cubicBezTo>
                      <a:cubicBezTo>
                        <a:pt x="204" y="295"/>
                        <a:pt x="274" y="267"/>
                        <a:pt x="188" y="294"/>
                      </a:cubicBezTo>
                      <a:cubicBezTo>
                        <a:pt x="178" y="298"/>
                        <a:pt x="130" y="315"/>
                        <a:pt x="120" y="318"/>
                      </a:cubicBezTo>
                      <a:cubicBezTo>
                        <a:pt x="111" y="324"/>
                        <a:pt x="103" y="328"/>
                        <a:pt x="94" y="331"/>
                      </a:cubicBezTo>
                      <a:cubicBezTo>
                        <a:pt x="79" y="339"/>
                        <a:pt x="23" y="377"/>
                        <a:pt x="12" y="383"/>
                      </a:cubicBezTo>
                      <a:cubicBezTo>
                        <a:pt x="0" y="392"/>
                        <a:pt x="19" y="389"/>
                        <a:pt x="22" y="386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flipV="1">
              <a:off x="6022800" y="2217960"/>
              <a:ext cx="322560" cy="1440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7660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91240" y="261288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882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454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368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91520" y="261936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75280" y="2612880"/>
              <a:ext cx="504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261280" y="3575160"/>
              <a:ext cx="322560" cy="1425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93080" y="5121360"/>
              <a:ext cx="260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Acuífero 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057400" y="2373480"/>
              <a:ext cx="247320" cy="2010960"/>
              <a:chOff x="2057400" y="2373480"/>
              <a:chExt cx="247320" cy="2010960"/>
            </a:xfrm>
          </p:grpSpPr>
          <p:sp>
            <p:nvSpPr>
              <p:cNvPr id="83" name=""/>
              <p:cNvSpPr/>
              <p:nvPr/>
            </p:nvSpPr>
            <p:spPr>
              <a:xfrm>
                <a:off x="205740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57400" y="3831840"/>
                <a:ext cx="247320" cy="5522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8728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4920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3200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8728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4920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3200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10636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16684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22876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285000" y="2373480"/>
              <a:ext cx="247320" cy="2010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285000" y="3575160"/>
              <a:ext cx="247320" cy="808920"/>
              <a:chOff x="3285000" y="3575160"/>
              <a:chExt cx="247320" cy="808920"/>
            </a:xfrm>
          </p:grpSpPr>
          <p:sp>
            <p:nvSpPr>
              <p:cNvPr id="96" name=""/>
              <p:cNvSpPr/>
              <p:nvPr/>
            </p:nvSpPr>
            <p:spPr>
              <a:xfrm>
                <a:off x="3285000" y="3575160"/>
                <a:ext cx="247320" cy="8089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14880" y="3647160"/>
                <a:ext cx="252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76440" y="3712680"/>
                <a:ext cx="2880" cy="21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59240" y="3656520"/>
                <a:ext cx="1080" cy="21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14880" y="3949200"/>
                <a:ext cx="2520" cy="21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76440" y="4011840"/>
                <a:ext cx="288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59240" y="3956760"/>
                <a:ext cx="10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3333600" y="424224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94080" y="4307040"/>
                <a:ext cx="288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456000" y="425880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273080" y="1066680"/>
              <a:ext cx="170316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Presa de j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25680" y="4812120"/>
              <a:ext cx="660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796600" y="4384800"/>
              <a:ext cx="432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6560" y="438480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24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2172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45440" y="4440600"/>
              <a:ext cx="260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200" y="1707840"/>
              <a:ext cx="727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133880" y="1339200"/>
              <a:ext cx="0" cy="9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37160" y="1339560"/>
              <a:ext cx="45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5972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0080" y="162108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34320" y="1621080"/>
              <a:ext cx="1000080" cy="596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2588040" y="1672920"/>
              <a:ext cx="6476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3812400" y="1662480"/>
              <a:ext cx="66852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1044000" y="1672200"/>
              <a:ext cx="6494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41200" y="170676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04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62040" y="171612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8788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732400" y="170136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752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51160" y="133524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41720" y="132588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3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8440" y="1335240"/>
              <a:ext cx="11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6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8560" y="4726440"/>
              <a:ext cx="1518840" cy="171360"/>
            </a:xfrm>
            <a:prstGeom prst="leftArrow">
              <a:avLst>
                <a:gd name="adj1" fmla="val 50000"/>
                <a:gd name="adj2" fmla="val 221586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" y="4907160"/>
              <a:ext cx="260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irección del Flu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bterráne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7016760" y="1599840"/>
            <a:ext cx="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20200" y="3886200"/>
            <a:ext cx="342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0960" y="5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0960" y="506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0080" y="243000"/>
            <a:ext cx="4562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Figur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Monitoreo del agua subterrá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6:01:03Z</dcterms:created>
  <dc:creator>Pre-Installed User</dc:creator>
  <dc:description/>
  <dc:language>en-US</dc:language>
  <cp:lastModifiedBy>Monica Balsas</cp:lastModifiedBy>
  <cp:lastPrinted>2002-11-14T16:01:16Z</cp:lastPrinted>
  <dcterms:modified xsi:type="dcterms:W3CDTF">2003-04-24T18:00:09Z</dcterms:modified>
  <cp:revision>6</cp:revision>
  <dc:subject/>
  <dc:title>Presentación de PowerPoint</dc:title>
</cp:coreProperties>
</file>